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6CA-3076-4D77-B3FC-6C1B4D6F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D52-D85D-4FB4-9795-4AA96D98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0BD3-2031-4110-8658-17FAA530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00F2-1066-4033-9FAF-16C19F4B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4EA8-4DED-45D3-868E-2A3EA6B7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B71B-5B36-4FE1-BA6C-ABC9B154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F687-655F-4FCF-96F8-F4E46794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7569-5008-49FC-BFC7-3EFD1B31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2BC1-66D3-46F6-90B5-0E7B9D88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5D7B-750B-42C4-AEDD-3717BEEB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B5CD-698E-428A-BF21-01C44733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4EA-DB4B-4D0E-B92E-5D059748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A6A0-D2B8-4701-80A0-0B8A8023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2E3B-BE93-4EA6-8151-C954A1BC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E316-D571-49B3-A753-08E67CF5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ADCB-0747-46F7-9CBB-EF96BB68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09E6-DCA5-4A04-9E17-F5FCFBED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E67-167C-4077-BF09-E51A4CC5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0EED-34EB-4EA1-8B95-1337DD00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F0B1-778A-4CC3-88FC-01227986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812-B32A-40B7-A59B-AD48061D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5D2B-4280-449D-8567-4BE668D6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2C7-43CD-4EC7-A70E-2D3B9975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C2D5-DEB0-45CA-909C-D8C4CB7A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2C29-6184-4AA4-960A-C05F8B034B2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E758-BF13-458C-A5EB-F898C042B91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rles Darwin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His </a:t>
            </a:r>
            <a:br>
              <a:rPr sz="5400"/>
            </a:b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rigin of Species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arwin’s Backgroun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52320" y="15238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rn in England, 1809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udied Medicine at Edinburgh Univers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ferred to Cambridge Univers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udied to be a Minis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33520" y="5638680"/>
            <a:ext cx="2759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brary of Congress, Prints and Photographs Division [reproduction number, e.g., LC-USZ61-104]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3" name="Picture 7" descr="C:\My Documents\My Pictures\web page  photos\Darwin.jpg"/>
          <p:cNvPicPr/>
          <p:nvPr/>
        </p:nvPicPr>
        <p:blipFill>
          <a:blip r:embed="rId1"/>
          <a:stretch/>
        </p:blipFill>
        <p:spPr>
          <a:xfrm>
            <a:off x="533520" y="1257480"/>
            <a:ext cx="2714400" cy="434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rwin’s Expedition - 183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5438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red as Naturalist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H.M.S. Beag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iled on Five Year Scientific Exped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wn East Coast of South Amer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p Pacific Coast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Galapagos Isla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de Stops on Mainland and Isla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served Many Similar Animals       with Small Differences Call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Variations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4" descr="E:\IMAGES\TRANSPRT\WATER\DIY00008.WMF"/>
          <p:cNvPicPr/>
          <p:nvPr/>
        </p:nvPicPr>
        <p:blipFill>
          <a:blip r:embed="rId1"/>
          <a:stretch/>
        </p:blipFill>
        <p:spPr>
          <a:xfrm>
            <a:off x="6781680" y="3962520"/>
            <a:ext cx="1920960" cy="2527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rwin’s Work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utlined Theory in his Book in 1859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n the Origin of Species by Means of Natural Sel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ed in 18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4" descr="E:\IMAGES\REC_LEIS\READING\CSC00001.WMF"/>
          <p:cNvPicPr/>
          <p:nvPr/>
        </p:nvPicPr>
        <p:blipFill>
          <a:blip r:embed="rId1"/>
          <a:stretch/>
        </p:blipFill>
        <p:spPr>
          <a:xfrm>
            <a:off x="4572000" y="4191120"/>
            <a:ext cx="3124080" cy="223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mmary of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rigin of Speci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posed Evolution Resulting from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atural Sele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ose With Best Traits Surv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ose that survive pass on their traits to their offspr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mall changes over many generations become BIG chan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me Frame: Millions of Yea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8:35:05Z</dcterms:created>
  <dc:creator>Jeff Foster</dc:creator>
  <dc:description/>
  <dc:language>en-US</dc:language>
  <cp:lastModifiedBy>Daniel Ramalho</cp:lastModifiedBy>
  <dcterms:modified xsi:type="dcterms:W3CDTF">2011-11-17T02:30:45Z</dcterms:modified>
  <cp:revision>16</cp:revision>
  <dc:subject/>
  <dc:title>PowerPoint Presentation.ppt</dc:title>
</cp:coreProperties>
</file>